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83E0-C4E5-48BB-92DC-36FEA4A2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1CCB-EA8A-48EB-94B3-E05F160D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EB37-7FF5-42B4-917F-F456E908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17521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1007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7351-4725-4C03-A148-EE7576B2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8934-95B3-4D54-BA95-F44A8CFD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6A28-02BD-4E39-899C-29747CCE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E21-C57A-4228-8507-C5E52B9B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10DB-F358-4729-B641-F1E98106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AF9C-13F0-4BD5-93A5-75BAD299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493A-F479-4631-B40B-8F2E0898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1007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713-C063-4ADE-A84F-8F361CD6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7521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007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E5FE-D80C-4CDF-9BA7-EB8B71A1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BD84-6E41-4F9D-99CD-37A5C94305F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2819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nsport in pl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55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ato plant regains its turg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3440" y="380880"/>
            <a:ext cx="8828280" cy="638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or Short Distance routes for trans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0" b="55817"/>
          <a:stretch/>
        </p:blipFill>
        <p:spPr>
          <a:xfrm>
            <a:off x="0" y="533520"/>
            <a:ext cx="5145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or Short Distance routes for trans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51451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ransport of minerals and water in roo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30556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ttation: result of nocturnal building of root pressur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pushing of Xylem s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lem sap ascent: the Transpiration-Cohesion-Tension mechanis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241280"/>
            <a:ext cx="89154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ent of water in a tree - role of hydrogen bon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5893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638680" y="685800"/>
            <a:ext cx="350532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aple tre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nspiration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00 liters/d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75 cm/m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f Stoma: Photosynthesis –Transpiration compromi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87200" y="838080"/>
            <a:ext cx="8956800" cy="4375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3520" y="5257800"/>
            <a:ext cx="78483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0% water loss through Sto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iration to Photosynthesis rat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00:1  (C3)  -   300:1  (C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mata on the underside of a lea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480" y="609480"/>
            <a:ext cx="89154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port in pl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353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iration larger than Xylem delivery: loss of turg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3440" y="380880"/>
            <a:ext cx="8828280" cy="638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chanism of stomatal opening and clo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8920080" cy="4737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181480" y="5486400"/>
            <a:ext cx="28958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ytime – Op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ghtime - Clo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chanism of stomatal opening and clo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991720" cy="4164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16440" y="5224320"/>
            <a:ext cx="689832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ght triggered accumulation K+ in guar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2 Depletion in leaf airspa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al clock in guard cell: Circadian Ry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loem sap transport: Bidirectional flow between sugar sources and sin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" descr="36-16-PhloemSucroseLoad-L.gif"/>
          <p:cNvPicPr/>
          <p:nvPr/>
        </p:nvPicPr>
        <p:blipFill>
          <a:blip r:embed="rId1"/>
          <a:stretch/>
        </p:blipFill>
        <p:spPr>
          <a:xfrm>
            <a:off x="0" y="1189080"/>
            <a:ext cx="91440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36-17-SieveTubePressFlow-L.gif"/>
          <p:cNvPicPr/>
          <p:nvPr/>
        </p:nvPicPr>
        <p:blipFill>
          <a:blip r:embed="rId1"/>
          <a:stretch/>
        </p:blipFill>
        <p:spPr>
          <a:xfrm>
            <a:off x="0" y="0"/>
            <a:ext cx="539604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410080" y="762120"/>
            <a:ext cx="373392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loem transpor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 source to si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sure Flow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 osmotic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sure near sourc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ich “pushes” water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wards si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5768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429000" y="2922480"/>
            <a:ext cx="5715000" cy="3935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57840" y="380880"/>
            <a:ext cx="435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phids and Phloem Resear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port in pl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353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port in pl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53528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port in pla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3528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e transport in plant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48306" b="53399"/>
          <a:stretch/>
        </p:blipFill>
        <p:spPr>
          <a:xfrm>
            <a:off x="76320" y="1295280"/>
            <a:ext cx="46479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e transport in plant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899136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potential and water mov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38102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water pot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Pa megapascal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MPa = 10at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707000" y="685800"/>
            <a:ext cx="44132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47960" y="15228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relations of plant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616280" cy="7086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960" y="1295280"/>
            <a:ext cx="428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Cell</a:t>
            </a:r>
            <a:r>
              <a:rPr b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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&gt; Environment </a:t>
            </a:r>
            <a:r>
              <a:rPr b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4733280" y="4800600"/>
            <a:ext cx="428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Cell</a:t>
            </a:r>
            <a:r>
              <a:rPr b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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&lt; Environment </a:t>
            </a:r>
            <a:r>
              <a:rPr b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ik Sotka</cp:lastModifiedBy>
  <dcterms:modified xsi:type="dcterms:W3CDTF">2005-09-22T13:34:01Z</dcterms:modified>
  <cp:revision>147</cp:revision>
  <dc:subject/>
  <dc:title>PowerPoint Presentation</dc:title>
</cp:coreProperties>
</file>